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A2C-1BA8-4B17-941B-60BB966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595-8009-497D-A481-2B4C9E9A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56E-C5BA-4DA9-8D2A-CA2B0E65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800-D8F4-4413-889C-CD9D4A04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51D-056E-40AA-A0E2-184368A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AE6-F6A7-4F62-8E31-03A6C39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C4E-6D61-4F89-9F49-C7A1381E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C87-567D-4702-91A9-C6704E78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D35-C292-445D-83CF-8F5513A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081-EED9-4EF2-88B9-967AC5C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F27-1218-478B-AD2E-24EA3A1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745-B832-45C7-8015-5808654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0F6-C49D-4F47-91E2-7560D86C9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UR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 kostet d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457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1911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Tis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Tisch kostet fünfundneun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6720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4191120"/>
            <a:ext cx="2895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Hau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304812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Haus kostet hunderttausend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19112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,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67080" y="457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T-shi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T-shirt kostet elf Euro fünfunddreißig 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492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457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n die Schuh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Schuhe kosten fünfund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6956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9880" y="457200"/>
            <a:ext cx="510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n die Rollschuh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Rollschuhe kosten dreiundsech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01924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20196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41911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9880" y="45720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Uh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819520" y="2895480"/>
            <a:ext cx="586728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Uhr kostet dreihundert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314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2057400" cy="246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141720" cy="32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419720" y="182880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Bleistift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3141720" cy="327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29200" y="3352680"/>
            <a:ext cx="2057400" cy="24685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380880" y="190512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Uhr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72080" cy="4064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1334880" cy="274140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4191120" y="1905120"/>
            <a:ext cx="43434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Film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72080" cy="4064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05720" y="4572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419720"/>
            <a:ext cx="19051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924680" y="4724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1334880" cy="2741400"/>
          </a:xfrm>
          <a:prstGeom prst="rect">
            <a:avLst/>
          </a:prstGeom>
          <a:ln w="0">
            <a:noFill/>
          </a:ln>
        </p:spPr>
      </p:pic>
      <p:sp>
        <p:nvSpPr>
          <p:cNvPr id="139" name="Cloud"/>
          <p:cNvSpPr/>
          <p:nvPr/>
        </p:nvSpPr>
        <p:spPr>
          <a:xfrm>
            <a:off x="380880" y="1981080"/>
            <a:ext cx="43434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Computer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Europe, Euro Area, EU"/>
          <p:cNvPicPr/>
          <p:nvPr/>
        </p:nvPicPr>
        <p:blipFill>
          <a:blip r:embed="rId2"/>
          <a:stretch/>
        </p:blipFill>
        <p:spPr>
          <a:xfrm>
            <a:off x="3048120" y="457200"/>
            <a:ext cx="560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10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7" name="Cloud"/>
          <p:cNvSpPr/>
          <p:nvPr/>
        </p:nvSpPr>
        <p:spPr>
          <a:xfrm>
            <a:off x="380880" y="1981080"/>
            <a:ext cx="50292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Kugelschreiber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,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410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55" name="Cloud"/>
          <p:cNvSpPr/>
          <p:nvPr/>
        </p:nvSpPr>
        <p:spPr>
          <a:xfrm>
            <a:off x="3581280" y="1981080"/>
            <a:ext cx="5029200" cy="2449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Haus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billi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62" name="Cloud"/>
          <p:cNvSpPr/>
          <p:nvPr/>
        </p:nvSpPr>
        <p:spPr>
          <a:xfrm>
            <a:off x="53352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Lampe ist bill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71" name="Cloud"/>
          <p:cNvSpPr/>
          <p:nvPr/>
        </p:nvSpPr>
        <p:spPr>
          <a:xfrm>
            <a:off x="342900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Auto ist teu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09680" y="47242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71500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7621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ist teu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696080" y="5867280"/>
            <a:ext cx="628920" cy="628920"/>
          </a:xfrm>
          <a:prstGeom prst="rect">
            <a:avLst/>
          </a:prstGeom>
          <a:ln w="0">
            <a:noFill/>
          </a:ln>
        </p:spPr>
      </p:pic>
      <p:sp>
        <p:nvSpPr>
          <p:cNvPr id="179" name="Cloud"/>
          <p:cNvSpPr/>
          <p:nvPr/>
        </p:nvSpPr>
        <p:spPr>
          <a:xfrm>
            <a:off x="3429000" y="2057400"/>
            <a:ext cx="5029200" cy="2449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508480" cy="482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40384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6858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Lamp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4343400" y="3200400"/>
            <a:ext cx="4343400" cy="2911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Lampe kostet dreiß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6858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Stuh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3352680" y="3200400"/>
            <a:ext cx="5334120" cy="3087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Stuhl kostet neunundvier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2766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6858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Bleistiftspitz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Bleistiftspitzer kostet zwölf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432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41911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628920" cy="62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5335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ie Kamer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Kamera kostet einundzwanzig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949320"/>
            <a:ext cx="38862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1911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er Fil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Film kostet zwei Euro fünfzig 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334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1911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2880" y="457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kostet das Bet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2971800" y="2895480"/>
            <a:ext cx="5715000" cy="3308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Bett kostet zweihundert Eu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675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9:23:34Z</dcterms:created>
  <dc:creator>Paul Widergren</dc:creator>
  <dc:description/>
  <dc:language>en-US</dc:language>
  <cp:lastModifiedBy>Paul Widergren</cp:lastModifiedBy>
  <dcterms:modified xsi:type="dcterms:W3CDTF">2004-12-31T17:30:19Z</dcterms:modified>
  <cp:revision>3</cp:revision>
  <dc:subject/>
  <dc:title>EUROS</dc:title>
</cp:coreProperties>
</file>